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4608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B8C4-CB87-4AAA-9335-2CDA518DE8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5AFF-D838-4446-89E1-EBB09F7A6B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42F9-59C8-4DBE-9614-DC75A99888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FF52-9860-496E-BE5C-B4719C19B4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0994-903D-4A38-8A8B-53314359F3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19D3-3FC6-41C5-BE7B-B5025097CC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8CA9-9FDE-4AD7-9968-04C84124E0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6C7A-DB6F-4457-A520-DB5CD713EF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226C-717A-4C44-A62C-43D59FCE70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A7C0-AB5E-4689-A12C-DE8EB22AD4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583-56E6-4CA8-B276-70336C12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12D-2701-498B-B968-6A1850EA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663-4DF6-4754-94DD-B5095B4D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982-319D-4137-A40E-12AC49E0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0A88-65C9-4501-A9A2-F43FEBCB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2A38-C1FE-4C8E-8B3C-98E08563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A749-6D3F-456F-91A9-2B20DAB6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79FB-F312-4F6D-B6C0-D8BDC1C0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8E55-A2AD-4BC8-8226-C54D8F99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AD22-55DE-414E-86E1-0C1E593C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6A36-AF40-467C-9362-B9CC101B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2D6-D040-4ADA-A3BB-76008B0D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8961-5AB3-4463-84FD-45772B3E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1933-14AF-495E-A6E0-72934934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2C20-0F91-45E6-B0DB-FB7B990B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45B8-37A2-4C28-BFEE-868699A7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139B-9D89-4FA5-99D1-9ACC3D67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E4A1F-DA9D-4662-87DD-F4F06199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BB4C-B09D-4017-895A-A376B1D5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BF21B-1E80-4858-B48A-3C5644B8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755DE-982A-4656-B94A-1D027AC5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4F60-C149-4E75-9EB2-8E2C3A5F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4B2-AB71-4956-A139-5911AF10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28A8D-FA2F-47BD-ABCB-BFFA1909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152F2-919E-4E67-B615-26E33753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0C4F-2454-4ADC-8585-3F61B136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B6B35-68FA-4C86-B5BB-A84AFCE8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5D1EC-412A-4130-93DE-3E895CC3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2B72-9166-4C41-A593-3355EB7E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E9C57-4C51-4318-B665-B3A0A654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CAC04-C5B1-493A-9D3F-17246E5F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E8714-223C-4A8B-86BD-DAB4FE9B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C38C5-B681-45D4-8EC8-93682E00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9B9-7705-4451-AA73-C2054471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3370A-4168-46BD-AA0E-65CB12C7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926A0-4BEF-4331-B2C2-FF9FA44D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EA1B1-FB48-4096-B4B0-EFA9C01D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AE303-BA8F-4576-B1F5-90AA9A19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920B1-6115-41C4-B72A-CD1FBB8F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4FE2C-FB7C-4854-97E6-ADCD373E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6DB70-8BC9-4550-AC82-323116F6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C9A22-A87A-46C0-AAC8-2F0E69F3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A9030-E364-40A1-BCDC-50FF07FB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9B9F4-B653-44FD-A3FE-81CAEC3C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D47-B97D-471C-894D-4080548C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669ED-19EB-4DEC-A703-7B43D140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6E913-A27B-4558-92B6-0405555C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7423F-DDF4-4990-BE4D-4E3C8711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5C35F-4E46-43C0-89C0-6759DB7D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57365-7BA8-440A-8DE9-5079BC16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E6CE4-49FE-4002-B0E2-065B49D1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EC482-6CEE-45CE-8CF8-BB9C0EFD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B3FFA-53E5-4AFA-9FF3-27B5202A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CA58E-F752-4A47-A537-6B4BDA81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19009-5379-4605-978B-4F31055C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4CB-5D97-436A-B396-72252568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139DA-DAF4-406F-A004-91547B5D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64525-708F-4034-BABE-A58817CA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F27B6-0AD4-49A7-99DB-891AFCBC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CC548-8BD1-4561-9937-632C415E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A8F36-3A5F-4B4C-BDE5-3909734F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00F19-FE0C-4237-81DF-4C6DE578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F11A4-093E-4089-8702-B8DEFF23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D04E9-4848-4536-BA2C-9FD99879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1A059-998C-4598-951D-7FE65D78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61BA4-719C-4211-AB0D-08B5CE97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68F-8999-446B-8746-BD2E3B22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D5EF4-A3EE-4C14-9A2D-0B541656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96931-FE0C-48A1-987E-02342D1B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127F7-1FCF-4913-9D1A-9D812E8D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D67-A102-4B86-A5CD-6D5BED78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EC4-50D9-4A15-977B-3E8C2AA5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59D9-528E-47E5-89B4-06AA1B2D66F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5A49-0FFC-4D8A-8A1D-EA3CC837CDF3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B549-49A4-4239-88B9-BC269D45BE0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FFD5-6E6C-452B-865B-AC33A3DEB0E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68F1-37F2-4465-8CC8-7850283ECD9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2F2E-F26A-4054-86D3-FA0B603DAA2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Q&amp;As on</a:t>
            </a: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AIR technical template and reporting on results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6 December 2015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DFA5-39D5-4609-87FC-EEDEC9C448B3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Reporting on results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 priority for all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Rural development well prepared!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CMES developed with MS/stakeholders over 4 yea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Designed to demonstrate results at RDP and EU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nitoring and evaluation combine to show full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C8E0-7C3E-40E3-BFAC-3CD05E151E30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Simplification of result reporting for 2014-2020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umber of indicators reduced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ll target indicator values obtained from simple monitoring dat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re complex result indicators addressed through evalu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"Standard" AIR based only on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1</a:t>
            </a:r>
            <a:r>
              <a:rPr b="1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 evaluation assessment in AIR 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5BA1-A2A5-4594-B7FB-62FB89B5F1AD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nnual result reporting (Standard AIR)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Target indicator values per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om monitoring da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hows achievements/progress to tar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nly programmed operations (primary effec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dditional contributions to Focus Area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penditure on operations flagged as having a secondary contrib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ve: only an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+ve: no new data or analysis, simple data ex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lance/proportiona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 new requirement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2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2B16-DEC1-4CE5-91F2-E79F1BD8D38A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context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Need to show full extent of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In reality many operations contribute to more than one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Too complex to capture from simple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6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6D64-7EE5-46DC-B59B-A16558F7CF94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solution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Multiple contributions to target indicators "built-in" for Priority 4 and parts of Priority 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Captured through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For other Focus Areas, operations are "flagged" when encoded in the Operations Databas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Allows evaluators to identify relevant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Discussed in ExCo, Expert group mee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valuators will quantify secondary contributions, and complementary result indicators, for the enhanced AI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Task shifted from 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Not required every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0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734F-A968-4F70-9AEC-459B9E54B838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Flagging of secondary contributi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05" name="Picture 2" descr=""/>
          <p:cNvPicPr/>
          <p:nvPr/>
        </p:nvPicPr>
        <p:blipFill>
          <a:blip r:embed="rId1"/>
          <a:srcRect l="29791" t="7505" r="37096" b="79746"/>
          <a:stretch/>
        </p:blipFill>
        <p:spPr>
          <a:xfrm>
            <a:off x="66600" y="1484280"/>
            <a:ext cx="6677280" cy="1403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rcRect l="30486" t="71123" r="37106" b="3433"/>
          <a:stretch/>
        </p:blipFill>
        <p:spPr>
          <a:xfrm>
            <a:off x="208080" y="2860560"/>
            <a:ext cx="6535800" cy="2800440"/>
          </a:xfrm>
          <a:prstGeom prst="rect">
            <a:avLst/>
          </a:prstGeom>
          <a:ln w="0">
            <a:noFill/>
          </a:ln>
        </p:spPr>
      </p:pic>
      <p:sp>
        <p:nvSpPr>
          <p:cNvPr id="307" name="Oval 1"/>
          <p:cNvSpPr/>
          <p:nvPr/>
        </p:nvSpPr>
        <p:spPr>
          <a:xfrm>
            <a:off x="4541760" y="4627440"/>
            <a:ext cx="1584360" cy="57636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08" name="Straight Arrow Connector 3"/>
          <p:cNvCxnSpPr>
            <a:stCxn id="307" idx="7"/>
          </p:cNvCxnSpPr>
          <p:nvPr/>
        </p:nvCxnSpPr>
        <p:spPr>
          <a:xfrm flipV="1">
            <a:off x="5893920" y="4627080"/>
            <a:ext cx="118440" cy="84960"/>
          </a:xfrm>
          <a:prstGeom prst="straightConnector1">
            <a:avLst/>
          </a:prstGeom>
          <a:ln w="0">
            <a:noFill/>
          </a:ln>
        </p:spPr>
      </p:cxnSp>
      <p:sp>
        <p:nvSpPr>
          <p:cNvPr id="309" name="TextBox 6"/>
          <p:cNvSpPr/>
          <p:nvPr/>
        </p:nvSpPr>
        <p:spPr>
          <a:xfrm>
            <a:off x="6743880" y="1628640"/>
            <a:ext cx="240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If nature of operations is known, no need to go at application level, whole set of operations simil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0" name="Straight Arrow Connector 8"/>
          <p:cNvCxnSpPr>
            <a:stCxn id="307" idx="7"/>
            <a:endCxn id="309" idx="1"/>
          </p:cNvCxnSpPr>
          <p:nvPr/>
        </p:nvCxnSpPr>
        <p:spPr>
          <a:xfrm flipV="1">
            <a:off x="5894280" y="2320200"/>
            <a:ext cx="850320" cy="239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Oval 16"/>
          <p:cNvSpPr/>
          <p:nvPr/>
        </p:nvSpPr>
        <p:spPr>
          <a:xfrm>
            <a:off x="4419720" y="5153040"/>
            <a:ext cx="2350800" cy="72864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TextBox 17"/>
          <p:cNvSpPr/>
          <p:nvPr/>
        </p:nvSpPr>
        <p:spPr>
          <a:xfrm>
            <a:off x="6831000" y="4627440"/>
            <a:ext cx="24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where nature is not known in advance, coded on processing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3" name="Straight Arrow Connector 11"/>
          <p:cNvCxnSpPr>
            <a:stCxn id="311" idx="7"/>
            <a:endCxn id="312" idx="1"/>
          </p:cNvCxnSpPr>
          <p:nvPr/>
        </p:nvCxnSpPr>
        <p:spPr>
          <a:xfrm flipV="1">
            <a:off x="6426360" y="4997160"/>
            <a:ext cx="405360" cy="2620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sp>
        <p:nvSpPr>
          <p:cNvPr id="314" name="Rectangle 2"/>
          <p:cNvSpPr/>
          <p:nvPr/>
        </p:nvSpPr>
        <p:spPr>
          <a:xfrm>
            <a:off x="5334120" y="1484280"/>
            <a:ext cx="1685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1B6A-8550-4E50-858F-517F5E7B7928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Capturing secondary contribuit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376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gnoring secondary effects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leads to  underestimation of RDP achieve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687240" y="3159000"/>
            <a:ext cx="7413840" cy="3380040"/>
          </a:xfrm>
          <a:prstGeom prst="rect">
            <a:avLst/>
          </a:prstGeom>
          <a:ln w="0">
            <a:noFill/>
          </a:ln>
        </p:spPr>
      </p:pic>
      <p:sp>
        <p:nvSpPr>
          <p:cNvPr id="320" name="Oval 1"/>
          <p:cNvSpPr/>
          <p:nvPr/>
        </p:nvSpPr>
        <p:spPr>
          <a:xfrm>
            <a:off x="1474920" y="5084640"/>
            <a:ext cx="1009440" cy="8654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843280" y="3357720"/>
            <a:ext cx="2200320" cy="2158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6732720" y="5192640"/>
            <a:ext cx="1008000" cy="86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23" name="Straight Arrow Connector 3"/>
          <p:cNvCxnSpPr/>
          <p:nvPr/>
        </p:nvCxnSpPr>
        <p:spPr>
          <a:xfrm>
            <a:off x="5043600" y="4581000"/>
            <a:ext cx="969120" cy="14756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Straight Arrow Connector 15"/>
          <p:cNvCxnSpPr/>
          <p:nvPr/>
        </p:nvCxnSpPr>
        <p:spPr>
          <a:xfrm flipH="1">
            <a:off x="5218920" y="5568840"/>
            <a:ext cx="1513800" cy="488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Straight Arrow Connector 17"/>
          <p:cNvCxnSpPr>
            <a:stCxn id="320" idx="2"/>
          </p:cNvCxnSpPr>
          <p:nvPr/>
        </p:nvCxnSpPr>
        <p:spPr>
          <a:xfrm>
            <a:off x="1474560" y="5516640"/>
            <a:ext cx="1080" cy="434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Straight Arrow Connector 23"/>
          <p:cNvCxnSpPr/>
          <p:nvPr/>
        </p:nvCxnSpPr>
        <p:spPr>
          <a:xfrm>
            <a:off x="2406240" y="5392440"/>
            <a:ext cx="2431080" cy="840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5-11-17T11:17:17Z</cp:lastPrinted>
  <dcterms:modified xsi:type="dcterms:W3CDTF">2015-12-16T14:01:26Z</dcterms:modified>
  <cp:revision>477</cp:revision>
  <dc:subject/>
  <dc:title>Slide 1</dc:title>
</cp:coreProperties>
</file>